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4EA-BA8F-4DAC-B0D8-CEDEE8E6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361C-886B-4244-9BF4-7C989251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4F9-102A-4E1A-8997-5E856ADC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AF5-F3CF-4F52-90C8-60A407BE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340-95CF-4D7F-B9C2-06BAF026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39A-E0F8-4B17-A1C4-A53C81BF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A5B-B8AE-4A1E-AB47-C9C7835C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CF8-4A6B-46C2-97D4-B14871FF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282-E708-4146-B3BB-FF9DF72D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79E-CF27-4B54-9482-C095BF0F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462-75DB-4D9A-9195-5C73FD72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2E7-9651-4869-A91C-750ACBE1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87FE-FEA9-475C-848E-3967F6327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freeplaymusic.com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cade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05720" y="495288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7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19320" y="609480"/>
            <a:ext cx="54864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atorad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638680" y="4952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52578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my Angel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/7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Cade"/>
          <p:cNvPicPr/>
          <p:nvPr/>
        </p:nvPicPr>
        <p:blipFill>
          <a:blip r:embed="rId1"/>
          <a:stretch/>
        </p:blipFill>
        <p:spPr>
          <a:xfrm>
            <a:off x="1752480" y="1981080"/>
            <a:ext cx="4953240" cy="208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5181480"/>
            <a:ext cx="655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torad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,10,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ad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762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love Gatorade because it tastes really good. I guarantee that everybody would love it! So if you have never had Gatorade then go ahead and try som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67, Gatorade gained instant notoriety and gained media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orade became a house hold name when the tradition of pouring the Gatorade jug over the head of the winning team’s co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athletes drink Gatorade now a 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s much as 15 different flavors of Gato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and of Gatorade also has other products such as chewing gum and energy b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57400" y="228600"/>
            <a:ext cx="4572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vention: Gatorad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Cade was born in Florida in 192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Cade was trained at the University of Texas medical school in Da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also studies about down syndrome, autism and m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Cade also discovered a similar product called Go Energy Recovery which helps athle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73, Robert and the University of Florida were able to strike a deal that allows the university to sell Gatorade every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47920" y="380880"/>
            <a:ext cx="57909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ventor: Robert Cad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3:25Z</dcterms:created>
  <dc:creator>install</dc:creator>
  <dc:description/>
  <dc:language>en-US</dc:language>
  <cp:lastModifiedBy>install</cp:lastModifiedBy>
  <dcterms:modified xsi:type="dcterms:W3CDTF">2010-05-12T17:35:39Z</dcterms:modified>
  <cp:revision>13</cp:revision>
  <dc:subject/>
  <dc:title>Slide 1</dc:title>
</cp:coreProperties>
</file>